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67A-08B2-4EA7-BE40-B749A089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84A-83F4-440F-A974-DDB5C5E6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38E-3179-4FAE-8645-97A2F273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9FC-B9DF-4D90-BAC4-73CAB8B7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BC60-03FD-4914-9B9C-D1340DBA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4A6-026B-4E75-BE2B-ABFBB45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DE25-9222-402C-A242-997174CC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8C3-024F-49FF-9B03-3E4CF50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F765-30AA-4EF9-BB5A-4DE6D27F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F4A9-F47D-428D-BEC0-7C061547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BF0F-0B33-49D1-9ACB-E116923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F2F-799C-41A1-8952-88103C8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DB7-25F4-4DCF-B15A-BC9D40D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F4EE-2240-49F5-87E2-BC0C2DD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6D1F-3FBB-4D07-978B-69546FB3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B4F-496F-43B6-B318-82CC7A61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3EC4-54E8-478B-8B31-439FBA17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9396-FAA9-491C-B050-4F8199B6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5BC6-ACB0-4E36-8533-EFAFDB7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312D-34DC-441B-BEEE-9A732888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CBCE-1B52-4688-84FD-F54506F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764D-EE33-4F57-83D7-D2BA5F6C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65B-9D6F-4AB2-9D21-BC0C4A3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ED8F-5E00-4BF7-B4FE-1B73092C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D0EA-383A-4A34-BE8F-B0ABF6C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8126-035D-4510-B22A-31889BB7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4AAB-329E-41D0-8B34-BF724CE0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0A04-6149-4D30-A529-2D521E2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A2CE-911D-48AC-A632-0921E07F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AED7-1801-4575-AF6D-E20C870E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BB41-FB61-40EB-ACF2-9B18827C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ACE4-B4AA-46DA-9B4A-50971579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DBD1-BC7A-4B49-9C02-7C1EED20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A7E-A8C6-4183-AD03-BA8FDC0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F446-3EC1-4403-B949-6203D94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9197-C8C5-4558-B231-CE4B207E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A00C-3624-439B-988A-656A997A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D480-7121-4B35-B29B-394B49C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C905E-6ACE-4BCF-95F8-3B3D51C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D143-138A-433A-B31D-386B531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BF01-225E-4492-A31B-5017C0D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13C9-BEAF-42D4-90BF-02FAEEC5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E855-7C8A-4CFE-9222-6729D33F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7E82-5BAB-4C67-BF38-97A83E3C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E48-58EE-447B-B1A1-ABCE484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A310-E371-4DC4-AC16-2FC840E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F380-7B43-4490-A9C4-356EB37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4FB1-0EBE-4E91-91DC-A04858E3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0F12-5D40-4C21-9523-4BE2100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B5AB-1262-4993-B7A9-F4133D0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F696-3C8B-4437-AD2F-EE38137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223A-F956-476F-9A0A-D7E3A1C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C1CD-E560-4ADC-AADB-A806E33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F3F1-B9C6-448B-9B21-1D57847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3638-539E-4075-A958-597690EB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D61-9212-4D61-8D64-CF0FE074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4DD6-B284-4FA7-A732-A29309BC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D6A-00F3-450F-85C9-4F6B744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DA9-29E7-4D9A-8FF7-739294C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7CF-671B-429E-ADC7-25E93FEF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1D25-86A9-47D1-817E-BB20AA9B12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872C-8BA0-4C7F-9624-02E80F33F0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7E61-FB19-4BE6-B4EE-A08EEC8C59A8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B54-E4EA-40D6-9171-952AC0E4516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E84B-1912-487E-AEE8-9891BA2ED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76360" y="2060640"/>
            <a:ext cx="6284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32000" y="1413000"/>
            <a:ext cx="6264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方法辅导主题班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"/>
          <p:cNvSpPr/>
          <p:nvPr/>
        </p:nvSpPr>
        <p:spPr>
          <a:xfrm>
            <a:off x="3616200" y="522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5516640"/>
            <a:ext cx="172728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40720" y="512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迎接期中考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5869080" cy="91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钟老师的期望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不要失去为自己争分、争星的机会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不轻言放弃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要拿出运动会上那种团结一致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勇于拼搏精神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你追我赶，争取在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天以后的期中考试中再创辉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相信一分耕耘，一分收获；我们相信逆水行舟，不进则退；我们相信天才出与勤奋；我们相信勤能补拙，之所以优秀是因为他更努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557360"/>
            <a:ext cx="756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计划的重要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0" y="4292640"/>
            <a:ext cx="1652760" cy="2362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3100320"/>
            <a:ext cx="75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 目标的重要性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学期目标、奋斗目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 学习目的性要加强，意识到学习的重要性，并积极地采取行动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880" y="1951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189000"/>
            <a:ext cx="5029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良好的开端是成功的一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132000" y="5445000"/>
            <a:ext cx="5029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事半功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1280" y="333360"/>
            <a:ext cx="8137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养成良好的学习习惯，掌握科学的学习方法，提高学习效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 高效听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―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分钟是学习中最重要的一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积极思考，紧跟老师思路，如果老师讲的某一个问题没有听懂，先快速地用简单的几个字记下问题，课后再找同学或老师帮助解决，一定要跟着老师的思路往前走，否则的话，一旦被其个别问题所困惑，就会影响整堂课的听课效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57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养成良好的学习习惯，掌握科学的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习方法，提高学习效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、 记笔记（要提纲挈领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在教师指导下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课本上有的如公式的适用范围、使用时的注意事项必须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老师指出的特别容易混淆和出错的地方必须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巧用笔记本（分出一列提示、补充处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⑸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利用课堂的间隙，见缝插针（与教师同步写，利用教师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运算的时间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对典型例题，一定先听分析讲解，简单记下方法即可，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万不要因为记笔记而面影响听课，否则，就是丢了西瓜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芝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借用好同学的笔记补遗漏、借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一定要阶段性地总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71640" y="1844640"/>
            <a:ext cx="7777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课前适当预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⑵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学习主动性加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⑶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精读（学会思考钻研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⑷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培养自学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⑸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对于课外知识要多积累，做到厚    积薄发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16000" y="808200"/>
            <a:ext cx="790560" cy="63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92360" y="836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cf01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f01"/>
                </a:solidFill>
                <a:latin typeface="Times New Roman"/>
              </a:rPr>
              <a:t>掌握好学习的步骤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2124000" cy="1844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885080" y="765000"/>
            <a:ext cx="95256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26920" y="1844640"/>
            <a:ext cx="7783560" cy="1373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数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定要重质量而不是数量，也就是说，做一道题一定弄懂吃透，可以反复几次来回思考，从各个角度考虑，这样做会一题胜过做十题，也只有这样才能做到举一反三，触类旁通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学习理科认识的方法大体上类似，只是在各科上稍做调整。学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科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一定要掌握好基础知识，该记的东西必须记劳，注意结合实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总之，学习数理化，关键是要抓基础，有了好的基础，难题不愁解不出来，因为难题也是由基础题演变而来的，所谓“万变不离其宗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47640" cy="495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26920" y="6237360"/>
            <a:ext cx="7848720" cy="620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40200" y="8222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cf01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cf01"/>
                </a:solidFill>
                <a:latin typeface="黑体"/>
                <a:ea typeface="黑体"/>
              </a:rPr>
              <a:t>了解各学科的特点</a:t>
            </a: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908000" y="1989000"/>
            <a:ext cx="554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49080" cy="592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00000" y="2348280"/>
            <a:ext cx="7651800" cy="3080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语文、英语的学习平时应注意量的积累（从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词到句子），可以准备一个小本子，平时看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读报，看到好的词汇、句子记下来，平时自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有了什么感想也应该写出来，这样坚持一段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间，语言知识自然丰富了，阅读分析能力也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高，写作时也有话可说了。学习文科，应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重数量到质量的飞跃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0200" y="8222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各学科的特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51280" y="5445000"/>
            <a:ext cx="5075280" cy="1413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900000" y="5448240"/>
            <a:ext cx="460872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19280" y="907920"/>
            <a:ext cx="70563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整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―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对知识消化、整理的过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9840" y="2780280"/>
            <a:ext cx="4911120" cy="2531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回忆当天的重点、难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看笔记，把自己对知识的领悟记下来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笔记做一些圈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新学的公式，一定要注意公式的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构，公式顺用、逆用、变用要理解透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4360" y="2921760"/>
            <a:ext cx="7956360" cy="2226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切记：不要一边翻书一边写作业，先看书，感觉都理 解了再做题，做题时遇到不会的问题先放下，然后做其他的题，最后再回过头来看书，找出 解不出的原因。老师布置的作业应先做，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间再做自己买的学习资料，应尽可能全做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确实没有时间，可以选择性地做 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千万不可以抄袭作业，应付作业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6256440"/>
            <a:ext cx="9144000" cy="601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21440" y="476280"/>
            <a:ext cx="4627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独立作业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――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强化训练的过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3:37Z</dcterms:modified>
  <cp:revision>81</cp:revision>
  <dc:subject>主题班会课件(分28大类): http://shop62905894.taobao.com</dc:subject>
  <dc:title>主题班会课件(分28大类): http://shop62905894.taobao.com</dc:title>
</cp:coreProperties>
</file>